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361809"/>
        <c:axId val="98833515"/>
      </c:barChart>
      <c:catAx>
        <c:axId val="893618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833515"/>
        <c:crosses val="autoZero"/>
        <c:auto val="1"/>
        <c:lblAlgn val="ctr"/>
        <c:lblOffset val="100"/>
        <c:noMultiLvlLbl val="0"/>
      </c:catAx>
      <c:valAx>
        <c:axId val="988335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3618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9444-33F5-4C46-B721-BBFF61D95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D618-ACA1-45AA-BBCD-06AA0180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36E5-37AC-44FB-B884-D6018155B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916A-877C-4F1A-A35A-58C23E4A9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DEA5-C6CD-4AE7-B8C8-20E73D2B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E317-607C-45A2-A520-00400C44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835A-9F30-4A65-9166-3AE91CE8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8580-C879-4D30-BA03-B845A38E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3133-C20F-4BBA-A05E-36E3E640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8CD0-3D12-4A03-91AE-309EAB20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C223-A5FF-44C0-AB66-99AF064A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82F6-558E-4F0C-982A-E62A6E6A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46CCA-77A3-464A-92B2-CCAE5105D4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