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912364"/>
        <c:axId val="16998894"/>
      </c:barChart>
      <c:catAx>
        <c:axId val="91912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8894"/>
        <c:crosses val="autoZero"/>
        <c:auto val="1"/>
        <c:lblAlgn val="ctr"/>
        <c:lblOffset val="100"/>
        <c:noMultiLvlLbl val="0"/>
      </c:catAx>
      <c:valAx>
        <c:axId val="169988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912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814-B73D-4ABA-A419-E17139B2C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EA04-9A06-41AB-9AA2-F4988EE4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C4E-36A0-40B4-AAD2-A796ACC63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DC2-C5B1-4DB7-BAD1-8034495E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08A-B4C4-4646-83E4-4AD687BA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1485-00BD-424D-BECA-AC524D0C0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378B-ACF5-4789-B9D9-40315E69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46E-C587-4559-A273-26CCBDF1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FD83-C1D9-4DA1-91EA-3BEED43A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DE78-AB84-4EFA-8C93-DEC54E8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0BB-FA91-4717-A4A1-D6E1FC0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24C-DBEC-464B-8EC5-C0018A9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3C984-4F73-4F66-BAB4-EB415D32C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