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5767"/>
        <c:axId val="83660205"/>
      </c:barChart>
      <c:catAx>
        <c:axId val="7585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60205"/>
        <c:crosses val="autoZero"/>
        <c:auto val="1"/>
        <c:lblAlgn val="ctr"/>
        <c:lblOffset val="100"/>
        <c:noMultiLvlLbl val="0"/>
      </c:catAx>
      <c:valAx>
        <c:axId val="83660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5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5A-D6FB-409E-A2C7-34BAED08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7A9-784B-4D0E-8B40-C844776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AAF-84E9-4E79-B096-E631B844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F7-BE8C-414B-9281-4E70451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5A5-8891-4F14-BCA0-39FD3C62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68D-B256-45C0-965A-909EC1C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7A3-EFBB-4798-BAD2-2EE648D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37E-1E8D-4A95-8CB7-D909B76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996-1A45-49F3-9156-FACD40B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5EF-48AB-4E5A-AF75-C356BFD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EA4-6B00-4016-AFC4-95653AD7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D4C-0A07-4B46-9B44-1CAF709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3A63-DA17-4088-9795-813B0C566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