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73839"/>
        <c:axId val="66716558"/>
      </c:barChart>
      <c:catAx>
        <c:axId val="49673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6558"/>
        <c:crosses val="autoZero"/>
        <c:auto val="1"/>
        <c:lblAlgn val="ctr"/>
        <c:lblOffset val="100"/>
        <c:noMultiLvlLbl val="0"/>
      </c:catAx>
      <c:valAx>
        <c:axId val="66716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73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BCB-3772-47F0-811D-5C63E9AE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92F-C57F-4F51-9E78-C37A3384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C78-6339-4608-B1E6-19F4BF92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16D-122A-46C6-9C6C-07F4AC2D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3B0-727B-404C-B06A-69B21A32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98B-27A5-4A4D-8B35-00EFF350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47A-6603-4FF0-84FE-6B7DFE3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BAF-FA95-4E1B-8E60-08200C6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E9E-154B-47DB-B0F9-7DD36802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CD7-CD39-4351-91E5-9C2515C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237-BF56-4BA3-9D69-907E2C7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46D-8987-4B38-B198-89E9A20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45C1-18E6-4228-9395-CE02B7C806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