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334322"/>
        <c:axId val="53580314"/>
      </c:barChart>
      <c:catAx>
        <c:axId val="793343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80314"/>
        <c:crosses val="autoZero"/>
        <c:auto val="1"/>
        <c:lblAlgn val="ctr"/>
        <c:lblOffset val="100"/>
        <c:noMultiLvlLbl val="0"/>
      </c:catAx>
      <c:valAx>
        <c:axId val="535803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343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4F7A-3DB6-450C-8CDB-A5358389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053-57E0-4C4F-95CD-ED141B8A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90B7-C459-43CF-97CB-03AA93AD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AF7A-C3AA-4ABB-9680-08D803A8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7737-497B-4625-83BD-C61A4EB8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88B4-5934-4838-B752-D3C68295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CAD2-15BF-49CB-842D-4C62D02E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7E45-BE36-4772-8344-3EDAE751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E2AC-DD95-42C1-907F-EE3A132A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A236-BD98-463D-A8CE-30C73E28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677F-04DA-419E-B057-0855F851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6FCE-F8E8-43D6-B4AC-B9C4F626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FF5A7-0874-43B0-AD17-4ED680C45E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