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35917"/>
        <c:axId val="85931251"/>
      </c:barChart>
      <c:catAx>
        <c:axId val="41435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31251"/>
        <c:crosses val="autoZero"/>
        <c:auto val="1"/>
        <c:lblAlgn val="ctr"/>
        <c:lblOffset val="100"/>
        <c:noMultiLvlLbl val="0"/>
      </c:catAx>
      <c:valAx>
        <c:axId val="85931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5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03D-597E-415E-B0F0-980B4824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241-40F7-4D55-B58B-77B9D5F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74D-0E07-4947-A1B0-520FCFEB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03E-3DB8-4971-A672-CFAEF772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799-462A-4D4C-9FE4-78F6AECF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4DE-9D0C-44F9-B3FD-6A480D9E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FA8-397A-4644-8E12-9235D2B0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2C4-35E9-449E-9143-6806D66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DAD-67B3-4AFB-8633-85F09AB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98A-288D-45D9-8DBA-BD70F63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0B0-9A18-484C-A3DF-4FC6BAC5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8B7-80EC-4C3C-A7FB-2D0FF266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CEEA-1CC9-4E95-BBF2-29CF048477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