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33600"/>
        <c:axId val="4355048"/>
      </c:barChart>
      <c:catAx>
        <c:axId val="42433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5048"/>
        <c:crosses val="autoZero"/>
        <c:auto val="1"/>
        <c:lblAlgn val="ctr"/>
        <c:lblOffset val="100"/>
        <c:noMultiLvlLbl val="0"/>
      </c:catAx>
      <c:valAx>
        <c:axId val="4355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33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113-349A-4627-99BA-87652BBE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6849-3B90-4CDB-B069-D0EB9579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2F0-E916-4F45-89BC-93EE4096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A1E5-AF3D-48DA-957F-8B894F28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22B-0A39-4839-A22C-B7B6A45B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914-32DD-4F30-BE71-9DD732F4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503-E893-4781-B675-B3377731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1F15-CDBD-4839-92A3-AD4F9427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2DF-EAC4-4596-9576-076ADA8E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516-0B4F-41B3-8E53-A17E7D28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7149-83E6-480A-A321-BFB82CC3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2FBC-D1D6-4CF4-ACEA-CC3A28FC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637C7-2C76-4EA3-9C98-99C752D30E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