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03279"/>
        <c:axId val="20986767"/>
      </c:barChart>
      <c:catAx>
        <c:axId val="33103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86767"/>
        <c:crosses val="autoZero"/>
        <c:auto val="1"/>
        <c:lblAlgn val="ctr"/>
        <c:lblOffset val="100"/>
        <c:noMultiLvlLbl val="0"/>
      </c:catAx>
      <c:valAx>
        <c:axId val="20986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03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CC6-1FC8-4697-B8AE-4B42DEE1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1BA-93A7-41C3-8126-4A158124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BEA-F1F5-4ED0-8FE8-C374FEAC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495-627D-4767-8E4F-44D2DBE1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4FD-A62E-4064-8E25-E08B2DF0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3FC-6FC7-4A03-B8C6-6A79B6D5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F8B-4430-4EEE-AF25-C11F7E29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AFD-212D-44F6-AB4A-83AB5A68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DC2-7620-402E-9130-21A33DC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77D-8EEB-43EA-BD32-F942DF10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FB5-2CB1-4A31-90D1-DD9B4BB8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372-00EB-4ED6-8409-14B457A3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5BF88-3C3E-4A6A-94F1-09DA3DD785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