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3591"/>
        <c:axId val="85962698"/>
      </c:barChart>
      <c:catAx>
        <c:axId val="2293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62698"/>
        <c:crosses val="autoZero"/>
        <c:auto val="1"/>
        <c:lblAlgn val="ctr"/>
        <c:lblOffset val="100"/>
        <c:noMultiLvlLbl val="0"/>
      </c:catAx>
      <c:valAx>
        <c:axId val="85962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3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FEB-7315-48E1-A8DA-E62D4B11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5E3-5A0A-409C-8C30-F83DD277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F08-8B9C-4C16-9A07-D703F0B0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AE3-40DD-46FB-9A68-3DFB188D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361-7080-49F4-81F6-4529FDCC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67B-BAFC-45D3-B623-F3584973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356-99E0-4881-BAEF-A3949C1F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15C-73E2-4478-80BF-9DA4E329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8E4-8151-4D6A-88E6-B0EE76A5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95B-B6EB-4512-8B83-7F0B212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A4A-DA41-4A43-B71B-BEDF99E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209-B346-42EB-AF02-20ABA3DD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E2331-59A0-4704-9394-4924BA4217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