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35366"/>
        <c:axId val="79907274"/>
      </c:barChart>
      <c:catAx>
        <c:axId val="53835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07274"/>
        <c:crosses val="autoZero"/>
        <c:auto val="1"/>
        <c:lblAlgn val="ctr"/>
        <c:lblOffset val="100"/>
        <c:noMultiLvlLbl val="0"/>
      </c:catAx>
      <c:valAx>
        <c:axId val="79907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35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378-EFF8-4BF6-BB56-27243B9A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D13-9134-450B-B258-59AC5776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5DC-D15A-4A52-8B76-18CA90EC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A83-D60E-4E3D-950A-13FE36C9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D6E-EB0E-470E-8FCB-9C3471E2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7FB-2891-42CE-95B7-ED296905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930-229C-4C13-BDB8-FB77CA94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05E-9767-4CCB-B9E3-FF0A1FBC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D46-B394-4CE3-BE0B-1439AD87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752-85A7-4791-B304-06909844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938-2146-43E2-9006-E07FCCC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C1A-B2DE-42D4-8815-BB3A23C8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D13F3-18DE-4531-9B0A-19EA47A898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