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44570"/>
        <c:axId val="1772871"/>
      </c:barChart>
      <c:catAx>
        <c:axId val="51144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2871"/>
        <c:crosses val="autoZero"/>
        <c:auto val="1"/>
        <c:lblAlgn val="ctr"/>
        <c:lblOffset val="100"/>
        <c:noMultiLvlLbl val="0"/>
      </c:catAx>
      <c:valAx>
        <c:axId val="1772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44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365-B42F-42C3-A4C7-A2160C67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6D2-6D8B-4591-8712-F37F14D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216-554F-4A3E-9FBF-59382A30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A7A-C9FF-46D5-ABB8-276DA441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73F-F092-4207-BB78-C1F6D578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130-FADF-4405-9F46-B0F4473B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884-27E9-4E8A-BB8B-5F79419E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F33-4DE4-4087-B26F-370EEAE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D37-47C3-4602-B0F5-74921F8A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66F-7F28-4B9B-899D-2FB79B28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221-0DDB-4117-A840-15D475F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317-C923-4A49-9696-414D332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2D16-F4F9-4CCA-BC53-EFC10B147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