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7593"/>
        <c:axId val="76785817"/>
      </c:barChart>
      <c:catAx>
        <c:axId val="19397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85817"/>
        <c:crosses val="autoZero"/>
        <c:auto val="1"/>
        <c:lblAlgn val="ctr"/>
        <c:lblOffset val="100"/>
        <c:noMultiLvlLbl val="0"/>
      </c:catAx>
      <c:valAx>
        <c:axId val="76785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7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051-62E2-49A7-9AA8-C6773C0F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72E-DF48-40F3-99E0-ED2C194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B1E-9F1B-45C7-A784-E84E853D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B4F-74A1-41B1-82E1-8E31BCA6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6B4-889D-4090-8FD3-1F62B21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C5D-869A-495C-A0CF-250D1CE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A54-2E3B-42C1-9945-25F3CC1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04E-2CB4-4372-9B74-CA53A6A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E4A-3410-44CE-B272-F42E81C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40D-7E7B-41BD-BEB3-ED2F2C5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281-C361-4390-A277-FCD5DA0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70A-CCB8-435A-A740-1A3BB2D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18C83-2757-4516-B4F7-CEBF51360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