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22467"/>
        <c:axId val="90368725"/>
      </c:barChart>
      <c:catAx>
        <c:axId val="61422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68725"/>
        <c:crosses val="autoZero"/>
        <c:auto val="1"/>
        <c:lblAlgn val="ctr"/>
        <c:lblOffset val="100"/>
        <c:noMultiLvlLbl val="0"/>
      </c:catAx>
      <c:valAx>
        <c:axId val="90368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22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F7D-9A29-4437-8BCB-8D6F39A8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002-8BF1-4558-A6D0-C408E4AD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5BB-42DB-49BF-B1A3-DC6BCE21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243-B3DE-4BBE-82D3-5A1FC290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9C3-42C3-4077-96CB-42E85D62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3BE-0D76-4BEE-84D4-7E02CA63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644-C27A-4834-938F-38CAE2DE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80E-B015-4941-B60A-BA9D1A69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999-7749-49E9-8EE6-AAD5603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354-916B-46C4-A046-8BFFB2B0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239-A586-4FAD-854C-01922A5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334-7C19-40FE-A2CB-2D6C0C78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46024-542B-4B74-9B8B-96075348CF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