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548924"/>
        <c:axId val="41026697"/>
      </c:barChart>
      <c:catAx>
        <c:axId val="135489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26697"/>
        <c:crosses val="autoZero"/>
        <c:auto val="1"/>
        <c:lblAlgn val="ctr"/>
        <c:lblOffset val="100"/>
        <c:noMultiLvlLbl val="0"/>
      </c:catAx>
      <c:valAx>
        <c:axId val="410266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489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1E0C-BEAD-4CD9-A484-EECA5707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0549-F622-4A98-B2D5-3B177177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EE35-BB27-4FD8-96D3-5D817E3E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36A7-ADE7-4B89-BAB5-C6F6AD7B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3B88-0B28-4BEA-ACAF-A0C977A3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E0EB-00B6-4C6D-A946-866B0207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E3FC-4407-44AD-B8BE-B9EC12BA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BC76-31B1-45BC-80B1-2073B14D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EECE-40DC-477A-9173-38A2FA79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B267-FFE2-4CED-B94D-75B819E0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CA3-ACE5-4C3E-B218-9D5EA2CF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1936-D906-4ABB-B2BA-A3FB2B54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3C639-406C-4826-9CAE-D703EEE374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