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5215"/>
        <c:axId val="35129833"/>
      </c:barChart>
      <c:catAx>
        <c:axId val="6685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29833"/>
        <c:crosses val="autoZero"/>
        <c:auto val="1"/>
        <c:lblAlgn val="ctr"/>
        <c:lblOffset val="100"/>
        <c:noMultiLvlLbl val="0"/>
      </c:catAx>
      <c:valAx>
        <c:axId val="35129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5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4E6-A7A2-45EB-B651-117E7CCE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115-B3ED-4AFC-8311-5A87C82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AD4-2B5A-42E7-87F7-BBCD5CD0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170-F545-4627-91B8-0B003E3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142-7845-4019-AF90-C366759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C9F-F4CB-4EBD-900C-1A69F827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0AB-CFD7-4AF0-973C-19DEC0DE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61B-084A-428B-9292-EEB25828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A22-DF25-4C3B-8C0C-97561E2A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9EA-CB64-44AE-BE91-4E02C5F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6B9-0239-4CBE-96D8-2120EBE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3FB-35F8-4678-A44A-3C7D8C9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53488-987B-46DF-B91F-822746BDE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