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110245"/>
        <c:axId val="64779550"/>
      </c:barChart>
      <c:catAx>
        <c:axId val="141102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779550"/>
        <c:crosses val="autoZero"/>
        <c:auto val="1"/>
        <c:lblAlgn val="ctr"/>
        <c:lblOffset val="100"/>
        <c:noMultiLvlLbl val="0"/>
      </c:catAx>
      <c:valAx>
        <c:axId val="647795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1102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7F12-13F4-4780-9CD2-9091CB152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D34F-2790-47B5-A43B-5BBD430BD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480B-561B-4EB8-B7AC-34D46C84E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55D9-6FAE-4AB1-B256-6C7DC5CB8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644F-E0B8-415D-B451-51C4B70B8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02E8-B087-4389-89A8-40062C38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02BC-9908-4D40-AC24-92EF10095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1B6C-34E0-4DA1-A845-E9D2CD629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FDF0-9486-4F6E-AE23-DD78CD132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E875-64B1-4A63-ABD7-09A9E010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CCF3-3C85-4EE1-8430-AD1F138C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45E5-7A74-4728-8120-DFAB9252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65330B-5763-45CE-9290-C89B0F5EAEC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