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15429"/>
        <c:axId val="32509208"/>
      </c:barChart>
      <c:catAx>
        <c:axId val="13515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09208"/>
        <c:crosses val="autoZero"/>
        <c:auto val="1"/>
        <c:lblAlgn val="ctr"/>
        <c:lblOffset val="100"/>
        <c:noMultiLvlLbl val="0"/>
      </c:catAx>
      <c:valAx>
        <c:axId val="325092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15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7331-FEA1-4E2A-975B-1504F335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607-D6BB-4893-8323-A689E16C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8B6B-0943-4786-BEAA-24FE47EC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8C3-BC74-4228-A9D3-573BDDCF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E17-BDF1-4D79-8103-AB427E0A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460-F0C7-4617-9CE5-E3FD4C6A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58C3-3AE1-4C16-A08C-DC21B305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38D-23B7-48A7-A2A1-7922EDBC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8E89-0377-4D5F-84F2-2C41D568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BD1-EA91-4DA0-959A-3F492ECF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1FE7-9721-497C-88B3-A6403908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472-B455-49EC-A98C-36CEA230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8A10B-CA94-4DFF-A2E0-B74C2BACB8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