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612756"/>
        <c:axId val="90832116"/>
      </c:barChart>
      <c:catAx>
        <c:axId val="236127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832116"/>
        <c:crosses val="autoZero"/>
        <c:auto val="1"/>
        <c:lblAlgn val="ctr"/>
        <c:lblOffset val="100"/>
        <c:noMultiLvlLbl val="0"/>
      </c:catAx>
      <c:valAx>
        <c:axId val="908321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6127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5EFB-6021-4D33-ACE5-9646BE5F7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D2F4-F2E9-409A-B88E-406932C6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F0EF-AF99-4507-B3D2-E4AAF37D3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2711-12AD-4C6F-85BF-66A934E21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2D3C-DDF9-4985-97B0-271A6425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4CF3-1046-4421-8A5C-ACD53C2A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E98F-B419-48EA-ACC6-87196494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D8D6-3F10-4100-94AE-53627D87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4B0E-94F6-4EDA-AC0E-4324D08F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5740-D793-49A3-9FC4-68B57FA7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B088-BBC3-47A4-B0AF-718B9564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F855-B5BD-467E-B85F-4DE2E9A1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E59449-DA86-4ADE-BA73-13E891BAAD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