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45753"/>
        <c:axId val="84542196"/>
      </c:barChart>
      <c:catAx>
        <c:axId val="11945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2196"/>
        <c:crosses val="autoZero"/>
        <c:auto val="1"/>
        <c:lblAlgn val="ctr"/>
        <c:lblOffset val="100"/>
        <c:noMultiLvlLbl val="0"/>
      </c:catAx>
      <c:valAx>
        <c:axId val="84542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5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3E1-F2CC-42B9-85B7-9E44287B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FEF-F8E7-48FA-A7A9-C7021A5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935-3CD3-4228-A1ED-D41F03C4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6D9-AFBA-4D49-A7F3-04DEA3F9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6C7-91F6-466D-A89D-0C12225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0CB-CFA3-4CE8-BE9D-B4EF02D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793-E9C1-40E9-A416-221ED64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876-8D2B-4F98-8D58-355C533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7CA-7F66-43BA-A327-C89C7BF8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9E2-897D-4E44-B515-256B4AD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C56-6681-4923-BD40-A9E8CF0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1C5-8913-4D88-A574-F4AE6A1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8B9AB-A643-4D24-B88E-47439C1FD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